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0BF-1AD2-496F-AB9E-8D522451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7E0-7440-4D6F-9EC4-E9C658B7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239-3AED-4571-AFF6-E0522D64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937-770E-4D35-9F95-DEA78DBE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0B9-951C-470B-BE96-BB6344AC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82D-F244-48A6-9208-684D8BD8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7BE-EA48-4C50-ACB5-B42FF256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2F36-9DD0-488D-8BA8-EFF01649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4E0-2524-493F-A787-990F4C81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8EC-1331-4C6D-8482-A265A5EF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ACA-88CD-448E-81C8-1B34BE3B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54E-C612-47B3-9BC8-7851CCC9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CDC8-9420-413B-80AE-AC7F9FF0B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ffice.microsoft.com/en-us/clipart/FX101321031033.aspx?pid=CL100570201033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520" y="304920"/>
            <a:ext cx="4495680" cy="32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How to use 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manda, Nadine, Jir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794200">
            <a:off x="304560" y="457200"/>
            <a:ext cx="31129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 create five slides on powerpoint based on a given top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 will include text and graph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 will provide a CD, link with powerpoint templates.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ffice.microsoft.com/en-us/clipart/FX101321031033.aspx?pid=CL10057020103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online links to teachers so that they can access instructional tools on powerpoint on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struction to teachers in how to use powerpoint (after school, training day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staff develop, project goals by grade level and set time table for comple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tops or lab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inst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or or smart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 funding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-40 laptops (Derek special, $649.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laptop $749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or $575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board $1445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Development trainer $250.00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ing/evaluati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Survey of staff to evaluate interest, skills, and classroom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 year check up with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Night-Showcase the power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year survey with things to improve on for nex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6:35:08Z</dcterms:created>
  <dc:creator>User</dc:creator>
  <dc:description/>
  <dc:language>en-US</dc:language>
  <cp:lastModifiedBy>User</cp:lastModifiedBy>
  <dcterms:modified xsi:type="dcterms:W3CDTF">2008-08-04T16:54:46Z</dcterms:modified>
  <cp:revision>2</cp:revision>
  <dc:subject/>
  <dc:title>How to use Powerpoint</dc:title>
</cp:coreProperties>
</file>